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ABD-49BD-474E-AA55-8A659039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FFD-F591-4E6D-AA81-3281EE1C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04D-42C6-4369-A29E-0F40FCC3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81C-041B-4E3B-A1C0-AE4AD997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13E-4210-46AD-A970-D6E4B7FA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F97-125D-4297-995A-76739547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AE7-D25D-4E9D-A244-82231999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35C-B7BC-4E3C-A868-54088FEE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FD7-0AD0-4DEA-94BC-4E84E897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8C31-B298-498C-87D1-22B20662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952-AFCC-4456-B829-33111A0A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53F-9891-4C66-BC5F-1A356245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7640-0434-4440-9ABA-E7DC030A4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8:30:10Z</dcterms:created>
  <dc:creator>abeason</dc:creator>
  <dc:description/>
  <dc:language>en-US</dc:language>
  <cp:lastModifiedBy>abeason</cp:lastModifiedBy>
  <dcterms:modified xsi:type="dcterms:W3CDTF">2008-11-20T18:30:14Z</dcterms:modified>
  <cp:revision>1</cp:revision>
  <dc:subject/>
  <dc:title>Slide 1</dc:title>
</cp:coreProperties>
</file>